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7627-2CB9-4F1C-973F-0BB100D3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26560" y="3873960"/>
            <a:ext cx="8317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CF79-5582-4989-8927-8225D44D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6560" y="387396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88600" y="387396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0235-1C29-44E3-BDAB-222276FC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38520" y="141300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50480" y="141300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826560" y="387396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38520" y="387396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50480" y="387396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FB3B-017A-4437-B9D2-06419474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767B-B917-42E1-9819-43DB488F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7D51-D110-496C-A152-DDAC9A2E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1557-6C0B-4EC3-B001-FBA771A4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6DE7-DABA-4A78-BB95-C6D0303D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3EFC-C118-44DE-9FE2-0A6EC964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71280" y="549360"/>
            <a:ext cx="817236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96DE-FC76-4791-A131-583C133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6560" y="387396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D882-6F6C-4619-A891-70EA0E7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C098-0315-4B29-8BB5-0019DAB0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387396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D96C-85C3-401F-89E2-CF8059C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6560" y="3873960"/>
            <a:ext cx="8317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2E7F-0374-4A6C-81C2-2523B594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6560" y="3873960"/>
            <a:ext cx="8317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FB82-F8A0-4974-98A8-B402A2A9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6560" y="387396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387396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A01-0DA5-4BB7-8C2D-E66B2996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38520" y="141300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50480" y="141300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6560" y="387396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38520" y="387396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50480" y="3873960"/>
            <a:ext cx="2677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F7D7-5105-40A6-A1C7-ECE37EC2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CA25-487F-46E2-807E-8FDCAE08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A27C-C670-4A82-A7A9-8D5A624A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61E8-4A8C-46D7-897E-45135901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71280" y="549360"/>
            <a:ext cx="817236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6177-7CF1-4338-8012-53E4DA4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560" y="387396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C444-F679-4C10-8C6A-A106F91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8600" y="387396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4590-CAC0-4C83-B6ED-C3FBC9F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524160"/>
            <a:ext cx="817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88600" y="1413000"/>
            <a:ext cx="40586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560" y="3873960"/>
            <a:ext cx="83170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0122-7BC3-4846-AC98-00D6FDB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49360"/>
            <a:ext cx="1042920" cy="799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8172360" cy="799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1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1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11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11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11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11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843E-5497-4BAF-AAEC-A4B1F2B75295}" type="slidenum">
              <a:rPr b="0" lang="zh-CN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0CFF-415F-4444-91ED-157B5EAF8D03}" type="slidenum">
              <a:rPr b="1" lang="zh-CN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58080" y="6961320"/>
            <a:ext cx="61920" cy="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849240" cy="6858000"/>
            <a:chOff x="0" y="0"/>
            <a:chExt cx="849240" cy="6858000"/>
          </a:xfrm>
        </p:grpSpPr>
        <p:sp>
          <p:nvSpPr>
            <p:cNvPr id="8" name=""/>
            <p:cNvSpPr/>
            <p:nvPr/>
          </p:nvSpPr>
          <p:spPr>
            <a:xfrm rot="16200000">
              <a:off x="-21240" y="3634200"/>
              <a:ext cx="895320" cy="846000"/>
            </a:xfrm>
            <a:prstGeom prst="parallelogram">
              <a:avLst>
                <a:gd name="adj" fmla="val 5604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6200000">
              <a:off x="-25200" y="4578480"/>
              <a:ext cx="897120" cy="846000"/>
            </a:xfrm>
            <a:prstGeom prst="parallelogram">
              <a:avLst>
                <a:gd name="adj" fmla="val 56153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-23040" y="5520240"/>
              <a:ext cx="895680" cy="846360"/>
            </a:xfrm>
            <a:prstGeom prst="parallelogram">
              <a:avLst>
                <a:gd name="adj" fmla="val 5603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6200000">
              <a:off x="-25200" y="802800"/>
              <a:ext cx="896760" cy="846000"/>
            </a:xfrm>
            <a:prstGeom prst="parallelogram">
              <a:avLst>
                <a:gd name="adj" fmla="val 56131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6200000">
              <a:off x="-22680" y="1744920"/>
              <a:ext cx="895320" cy="846360"/>
            </a:xfrm>
            <a:prstGeom prst="parallelogram">
              <a:avLst>
                <a:gd name="adj" fmla="val 5601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6200000">
              <a:off x="-22680" y="2691000"/>
              <a:ext cx="895320" cy="846360"/>
            </a:xfrm>
            <a:prstGeom prst="parallelogram">
              <a:avLst>
                <a:gd name="adj" fmla="val 5601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468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25092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80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313920"/>
            <a:ext cx="847440" cy="6543720"/>
            <a:chOff x="0" y="313920"/>
            <a:chExt cx="847440" cy="6543720"/>
          </a:xfrm>
        </p:grpSpPr>
        <p:sp>
          <p:nvSpPr>
            <p:cNvPr id="18" name=""/>
            <p:cNvSpPr/>
            <p:nvPr/>
          </p:nvSpPr>
          <p:spPr>
            <a:xfrm flipH="1" rot="5400000">
              <a:off x="-23760" y="31658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5400000">
              <a:off x="-23760" y="41086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5400000">
              <a:off x="-24480" y="50500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5400000">
              <a:off x="-19800" y="5991480"/>
              <a:ext cx="885960" cy="846000"/>
            </a:xfrm>
            <a:prstGeom prst="parallelogram">
              <a:avLst>
                <a:gd name="adj" fmla="val 5545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5400000">
              <a:off x="-23760" y="3384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rot="5400000">
              <a:off x="-24480" y="127512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rot="5400000">
              <a:off x="-24480" y="2221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6480000" y="6319800"/>
            <a:ext cx="266400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ED1-7B23-4CAF-B085-28A3EFD8C05F}" type="slidenum">
              <a:rPr b="0" lang="zh-CN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313920"/>
            <a:ext cx="847440" cy="6543720"/>
            <a:chOff x="0" y="313920"/>
            <a:chExt cx="847440" cy="6543720"/>
          </a:xfrm>
        </p:grpSpPr>
        <p:sp>
          <p:nvSpPr>
            <p:cNvPr id="67" name=""/>
            <p:cNvSpPr/>
            <p:nvPr/>
          </p:nvSpPr>
          <p:spPr>
            <a:xfrm flipH="1" rot="5400000">
              <a:off x="-23760" y="3165840"/>
              <a:ext cx="895320" cy="846360"/>
            </a:xfrm>
            <a:prstGeom prst="parallelogram">
              <a:avLst>
                <a:gd name="adj" fmla="val 5601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-23760" y="4108680"/>
              <a:ext cx="895320" cy="846360"/>
            </a:xfrm>
            <a:prstGeom prst="parallelogram">
              <a:avLst>
                <a:gd name="adj" fmla="val 5601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-24480" y="5050080"/>
              <a:ext cx="895320" cy="846000"/>
            </a:xfrm>
            <a:prstGeom prst="parallelogram">
              <a:avLst>
                <a:gd name="adj" fmla="val 5604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-19800" y="5991480"/>
              <a:ext cx="885960" cy="846000"/>
            </a:xfrm>
            <a:prstGeom prst="parallelogram">
              <a:avLst>
                <a:gd name="adj" fmla="val 55455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-23760" y="338400"/>
              <a:ext cx="895320" cy="846360"/>
            </a:xfrm>
            <a:prstGeom prst="parallelogram">
              <a:avLst>
                <a:gd name="adj" fmla="val 5601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-24480" y="1275120"/>
              <a:ext cx="895320" cy="846000"/>
            </a:xfrm>
            <a:prstGeom prst="parallelogram">
              <a:avLst>
                <a:gd name="adj" fmla="val 5604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-24480" y="2221200"/>
              <a:ext cx="895320" cy="846000"/>
            </a:xfrm>
            <a:prstGeom prst="parallelogram">
              <a:avLst>
                <a:gd name="adj" fmla="val 5604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5092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80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6840" y="270828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ff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22280" y="2697120"/>
            <a:ext cx="295200" cy="4160880"/>
            <a:chOff x="422280" y="2697120"/>
            <a:chExt cx="295200" cy="4160880"/>
          </a:xfrm>
        </p:grpSpPr>
        <p:sp>
          <p:nvSpPr>
            <p:cNvPr id="77" name=""/>
            <p:cNvSpPr/>
            <p:nvPr/>
          </p:nvSpPr>
          <p:spPr>
            <a:xfrm>
              <a:off x="422280" y="2697120"/>
              <a:ext cx="29520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96b9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3680" y="2700360"/>
              <a:ext cx="161640" cy="41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84200" y="2708280"/>
            <a:ext cx="8659440" cy="274680"/>
            <a:chOff x="484200" y="2708280"/>
            <a:chExt cx="8659440" cy="274680"/>
          </a:xfrm>
        </p:grpSpPr>
        <p:sp>
          <p:nvSpPr>
            <p:cNvPr id="80" name=""/>
            <p:cNvSpPr/>
            <p:nvPr/>
          </p:nvSpPr>
          <p:spPr>
            <a:xfrm>
              <a:off x="8852760" y="2708280"/>
              <a:ext cx="29088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96b9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4200" y="2771640"/>
              <a:ext cx="836856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0" y="0"/>
            <a:ext cx="849240" cy="6858000"/>
            <a:chOff x="0" y="0"/>
            <a:chExt cx="849240" cy="6858000"/>
          </a:xfrm>
        </p:grpSpPr>
        <p:sp>
          <p:nvSpPr>
            <p:cNvPr id="83" name=""/>
            <p:cNvSpPr/>
            <p:nvPr/>
          </p:nvSpPr>
          <p:spPr>
            <a:xfrm rot="16200000">
              <a:off x="-21240" y="3634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-25200" y="4578480"/>
              <a:ext cx="897120" cy="846000"/>
            </a:xfrm>
            <a:prstGeom prst="parallelogram">
              <a:avLst>
                <a:gd name="adj" fmla="val 56153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-23040" y="5520240"/>
              <a:ext cx="895680" cy="846360"/>
            </a:xfrm>
            <a:prstGeom prst="parallelogram">
              <a:avLst>
                <a:gd name="adj" fmla="val 56039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-25200" y="8028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-22680" y="17449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-22680" y="26910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468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8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480000" y="6319800"/>
            <a:ext cx="2664000" cy="538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1484280"/>
            <a:ext cx="8388360" cy="1216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企业组织系统咨询班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016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管理者量化参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8172360" cy="799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一部分：需求度量化评分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-8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得分为财富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得分为健康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得分为享乐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得分为工作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得分为权力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得分为研发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得分为情感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7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4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得分为成就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8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8172360" cy="799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二部分：未来三年走势图得分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财政指数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合计得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品味指数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合计得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生活指数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合计得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8172360" cy="799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三部分：思考模式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7043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八个得分的合计得分为思考模式得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2133720"/>
          <a:ext cx="7632720" cy="4292640"/>
        </p:xfrm>
        <a:graphic>
          <a:graphicData uri="http://schemas.openxmlformats.org/drawingml/2006/table">
            <a:tbl>
              <a:tblPr/>
              <a:tblGrid>
                <a:gridCol w="1609560"/>
                <a:gridCol w="3100680"/>
                <a:gridCol w="1068120"/>
                <a:gridCol w="18543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特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管理风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得分区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正面进攻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正面思考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监督思考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监督防守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8172360" cy="799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四部分：规范化管理指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+4+5+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2+3+6+7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分     社会型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分     生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相差小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分，协调性管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8172360" cy="799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五部分：优势特征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八个得分，去掉第二个得分，然后从高到低排列得分，可有多种得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营销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8 147 158   13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生产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6  156  456 458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人资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5 158 457 45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技术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6  468  678  46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职能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5 157 14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客户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4 138 13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8172360" cy="799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六部分：目前状态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83170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高的得分与最低的得分的排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多种可能得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5T02:23:53Z</dcterms:created>
  <dc:creator>.</dc:creator>
  <dc:description/>
  <dc:language>en-US</dc:language>
  <cp:lastModifiedBy>Chinese User</cp:lastModifiedBy>
  <cp:lastPrinted>2000-08-29T06:37:37Z</cp:lastPrinted>
  <dcterms:modified xsi:type="dcterms:W3CDTF">2013-07-11T15:22:18Z</dcterms:modified>
  <cp:revision>1348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